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64E-75C4-4824-B1BD-7F31A05C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087-8EFF-4505-98C3-6A375845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154-9BE7-4C1E-BA3C-8718363E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567-BCD2-489E-BA59-4B5E3433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D1B-6024-4E8C-8DF8-A59BD147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93F-6B7E-4AC6-B763-CC7D862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AEA-0A67-414F-90C5-D793EB1B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6CB-7A4C-4171-80D7-55961649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B2E-EDBA-4EB5-82E3-33EEEE62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B58-5A75-40DB-ADAF-3859287A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6A0-F253-4BC7-84D4-0537A889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FB5-32D4-4242-892F-D562730E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8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8840-B632-4C60-855F-B1AAB77E2E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4000" y="189000"/>
            <a:ext cx="8496000" cy="68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пы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реобразования муниципальных медицинских организаций автономного о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</a:rPr>
              <a:t>Главный врач  «БУ Нижневартовская городская поликлиника»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</a:rPr>
              <a:t>Мария Евстигнеевна Блюсов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</a:rPr>
              <a:t>г. Ханты-Мансийс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</a:rPr>
              <a:t>19 ноября 2014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10" descr="gerb_1.png"/>
          <p:cNvPicPr/>
          <p:nvPr/>
        </p:nvPicPr>
        <p:blipFill>
          <a:blip r:embed="rId1"/>
          <a:stretch/>
        </p:blipFill>
        <p:spPr>
          <a:xfrm>
            <a:off x="3714840" y="357120"/>
            <a:ext cx="13874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206280"/>
            <a:ext cx="7643880" cy="542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В Учреждении созданы  специализированные и диагностические отделения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Хирургическое с центром амбулаторной хирург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Офтальмологическое с кабинетом амбулаторной хирургии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 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гла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Оториноларингологическое с сурдологическим кабине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Травматолого-ортопедическое с круглосуточным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 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травмпунк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Дневной стациона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 Отделение восстановительного ле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 Рентгенодиагнос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 Эндоскоп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Отделение функциональной и ультразвуковой диагнос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 Клинико-диагностическая лаборато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Центр здоров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91966"/>
                </a:solidFill>
                <a:uFillTx/>
                <a:latin typeface="Arial"/>
                <a:ea typeface="Arial"/>
              </a:rPr>
              <a:t>Служба контроля качества медицинской помощ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91966"/>
                </a:solidFill>
                <a:uFillTx/>
                <a:latin typeface="Arial"/>
                <a:ea typeface="Arial"/>
              </a:rPr>
              <a:t>Организован самостоятельный автотранспортный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91966"/>
                </a:solidFill>
                <a:uFillTx/>
                <a:latin typeface="Arial"/>
                <a:ea typeface="Arial"/>
              </a:rPr>
              <a:t>учас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4" descr="IMG_0388"/>
          <p:cNvPicPr/>
          <p:nvPr/>
        </p:nvPicPr>
        <p:blipFill>
          <a:blip r:embed="rId1"/>
          <a:stretch/>
        </p:blipFill>
        <p:spPr>
          <a:xfrm>
            <a:off x="7693200" y="500040"/>
            <a:ext cx="123660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IMG_0383"/>
          <p:cNvPicPr/>
          <p:nvPr/>
        </p:nvPicPr>
        <p:blipFill>
          <a:blip r:embed="rId2"/>
          <a:stretch/>
        </p:blipFill>
        <p:spPr>
          <a:xfrm>
            <a:off x="4929120" y="57150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DSC03282"/>
          <p:cNvPicPr/>
          <p:nvPr/>
        </p:nvPicPr>
        <p:blipFill>
          <a:blip r:embed="rId3"/>
          <a:stretch/>
        </p:blipFill>
        <p:spPr>
          <a:xfrm>
            <a:off x="7715160" y="150012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IMG_1707"/>
          <p:cNvPicPr/>
          <p:nvPr/>
        </p:nvPicPr>
        <p:blipFill>
          <a:blip r:embed="rId4"/>
          <a:stretch/>
        </p:blipFill>
        <p:spPr>
          <a:xfrm>
            <a:off x="7715160" y="2500200"/>
            <a:ext cx="1216080" cy="1016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IMG_0376"/>
          <p:cNvPicPr/>
          <p:nvPr/>
        </p:nvPicPr>
        <p:blipFill>
          <a:blip r:embed="rId5"/>
          <a:stretch/>
        </p:blipFill>
        <p:spPr>
          <a:xfrm>
            <a:off x="7715160" y="3571920"/>
            <a:ext cx="1249560" cy="998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IMG_0379.jpg"/>
          <p:cNvPicPr/>
          <p:nvPr/>
        </p:nvPicPr>
        <p:blipFill>
          <a:blip r:embed="rId6"/>
          <a:stretch/>
        </p:blipFill>
        <p:spPr>
          <a:xfrm>
            <a:off x="7715160" y="5786280"/>
            <a:ext cx="1252800" cy="85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IMG_2350"/>
          <p:cNvPicPr/>
          <p:nvPr/>
        </p:nvPicPr>
        <p:blipFill>
          <a:blip r:embed="rId7"/>
          <a:stretch/>
        </p:blipFill>
        <p:spPr>
          <a:xfrm>
            <a:off x="7715160" y="4643280"/>
            <a:ext cx="1216080" cy="1000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8"/>
          <a:stretch/>
        </p:blipFill>
        <p:spPr>
          <a:xfrm>
            <a:off x="6286680" y="5715000"/>
            <a:ext cx="1143000" cy="92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SC_0579"/>
          <p:cNvPicPr/>
          <p:nvPr/>
        </p:nvPicPr>
        <p:blipFill>
          <a:blip r:embed="rId9"/>
          <a:stretch/>
        </p:blipFill>
        <p:spPr>
          <a:xfrm>
            <a:off x="3429000" y="5735520"/>
            <a:ext cx="1308240" cy="87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MG_0407"/>
          <p:cNvPicPr/>
          <p:nvPr/>
        </p:nvPicPr>
        <p:blipFill>
          <a:blip r:embed="rId10"/>
          <a:stretch/>
        </p:blipFill>
        <p:spPr>
          <a:xfrm>
            <a:off x="2428920" y="5715000"/>
            <a:ext cx="799920" cy="88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1000356"/>
          <p:cNvPicPr/>
          <p:nvPr/>
        </p:nvPicPr>
        <p:blipFill>
          <a:blip r:embed="rId11"/>
          <a:stretch/>
        </p:blipFill>
        <p:spPr>
          <a:xfrm>
            <a:off x="1500120" y="5715000"/>
            <a:ext cx="862200" cy="857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IMG_0380.jpg"/>
          <p:cNvPicPr/>
          <p:nvPr/>
        </p:nvPicPr>
        <p:blipFill>
          <a:blip r:embed="rId12"/>
          <a:stretch/>
        </p:blipFill>
        <p:spPr>
          <a:xfrm>
            <a:off x="500040" y="5643720"/>
            <a:ext cx="85716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42920" y="108360"/>
            <a:ext cx="8786880" cy="618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Создан отдел информационного обеспе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Создана виртуальная сеть между всеми подразделениями Учреждения, с доступом с 300 рабочих мест в единую медицинскую информационную систему, в том числе в отделении врачебной практики в отдаленных районах гор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Автоматизированы регистратуры поликлиник, возможен прием пациентов по электронным полисам ОМС и ДМС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Организованы все виды электронной записи на прием: через Терминал, Интернет, в том числе с помощью мобильных приложен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Внедрена автоматизированная система выписки льготных рецептов, в том числе в  отделениях врачебной практ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В 2014 году Учреждение перешло на новую Асинхронную медицинскую систему телеконсультаций «АМС Доктор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Calibri"/>
              </a:rPr>
              <a:t>NET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Внедрена система дистанционного обучения врач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Создана единая электронная прививочная картоте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214200" y="51480"/>
            <a:ext cx="8786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Исполнение отдельных поручений Президента РФ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 Учреждении проводится ежегодное диспансерное обследование инвалидов Великой отечественной войн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Оказание им первоочередной медицинской помощи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Обеспечение необходимыми лекарственными препарат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Первостепенным является обслуживание данной категории гражда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на дому с организацией консультаций врачей-специалистов и, пр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необходимости, организацией «стационара» на дом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5643720" y="3500280"/>
            <a:ext cx="3286080" cy="219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sp>
        <p:nvSpPr>
          <p:cNvPr id="91" name="Прямоугольник 3"/>
          <p:cNvSpPr/>
          <p:nvPr/>
        </p:nvSpPr>
        <p:spPr>
          <a:xfrm>
            <a:off x="357120" y="3071880"/>
            <a:ext cx="5000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2014 году охвачено медицинскими осмотра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572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человека (85,4%) из числа ветеранов ВОВ и приравненных к ним категорий гражда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 том числ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25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пациентам (56,8%) данная услуга оказана на дом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се нуждающиеся, получили стационарное лечен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14200" y="5868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Объединение поликлиник позволило выработать единые подходы к проведению диспансеризации определенных групп взрослого насе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7120" y="1214280"/>
          <a:ext cx="8286840" cy="1401840"/>
        </p:xfrm>
        <a:graphic>
          <a:graphicData uri="http://schemas.openxmlformats.org/drawingml/2006/table">
            <a:tbl>
              <a:tblPr/>
              <a:tblGrid>
                <a:gridCol w="3286080"/>
                <a:gridCol w="2571840"/>
                <a:gridCol w="24289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3 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 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Объем диспансер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70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(103% от пл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658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(100,9% от пл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ик 3"/>
          <p:cNvSpPr/>
          <p:nvPr/>
        </p:nvSpPr>
        <p:spPr>
          <a:xfrm>
            <a:off x="214200" y="2643120"/>
            <a:ext cx="878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Число граждан, направленных на 2-й этап диспансериз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9113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человек, что составляе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38,3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от количества лиц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II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и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III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групп здоровь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Завершили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2-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й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этап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7181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человек 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78,8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о итогам диспансеризации определены группы здоровья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14200" y="4572000"/>
          <a:ext cx="8715600" cy="1920960"/>
        </p:xfrm>
        <a:graphic>
          <a:graphicData uri="http://schemas.openxmlformats.org/drawingml/2006/table">
            <a:tbl>
              <a:tblPr/>
              <a:tblGrid>
                <a:gridCol w="1428840"/>
                <a:gridCol w="2286000"/>
                <a:gridCol w="5000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 546 </a:t>
                      </a:r>
                      <a:r>
                        <a:rPr b="1" lang="en-US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(34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Низкий и умеренный риск сосудистых осложнений в течение 1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II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1269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(30,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Высокий и очень высокий риск сосудистых осложнений в течение 1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III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 767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(34,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Calibri"/>
                        </a:rPr>
                        <a:t>Выявлены социально значимые заболевания, требующие Д-наблю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357120" y="123480"/>
            <a:ext cx="5715000" cy="497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ыполнение плана профилактических флюорографических осмот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За 9 мес. 2014 выполне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69255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рофилактических флюорографических осмотров, что составляет 82% от годового пла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 2013 году проведе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82233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рофилактических флюорографических осмотра на туберкулез, что составляет 96,2% от плана (85 491 чел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Количество осмотренных лиц из числа коренных малочисленных народов Севера составляе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95,2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https://upload.wikimedia.org/wikipedia/commons/thumb/f/f4/%D0%A6%D0%B8%D1%84%D1%80%D0%BE%D0%B2%D0%BE%D0%B9_%D1%84%D0%BB%D1%8E%D0%BE%D1%80%D0%BE%D0%B3%D1%80%D0%B0%D1%84.jpg/220px-%D0%A6%D0%B8%D1%84%D1%80%D0%BE%D0%B2%D0%BE%D0%B9_%D1%84%D0%BB%D1%8E%D0%BE%D1%80%D0%BE%D0%B3%D1%80%D0%B0%D1%84.jpg"/>
          <p:cNvPicPr/>
          <p:nvPr/>
        </p:nvPicPr>
        <p:blipFill>
          <a:blip r:embed="rId1"/>
          <a:stretch/>
        </p:blipFill>
        <p:spPr>
          <a:xfrm>
            <a:off x="6643800" y="571680"/>
            <a:ext cx="2095560" cy="167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ttps://upload.wikimedia.org/wikipedia/commons/thumb/8/8d/Normal_AP.JPG/640px-Normal_AP.JPG"/>
          <p:cNvPicPr/>
          <p:nvPr/>
        </p:nvPicPr>
        <p:blipFill>
          <a:blip r:embed="rId2"/>
          <a:stretch/>
        </p:blipFill>
        <p:spPr>
          <a:xfrm>
            <a:off x="6929280" y="3000240"/>
            <a:ext cx="17780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285840" y="216360"/>
            <a:ext cx="85723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настоящее время Югра является единственным регионом в РФ, где проводится скрининг на колоректальный рак</a:t>
            </a: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http://ugra-news.ru/sites/default/files/styles/main_photo/public/images/article/2014/11/12/img_1328.jpg?itok=9gWrGQM8"/>
          <p:cNvPicPr/>
          <p:nvPr/>
        </p:nvPicPr>
        <p:blipFill>
          <a:blip r:embed="rId1"/>
          <a:stretch/>
        </p:blipFill>
        <p:spPr>
          <a:xfrm>
            <a:off x="5553000" y="4500720"/>
            <a:ext cx="3400560" cy="2151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214200" y="4357800"/>
            <a:ext cx="500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С целью увеличения охвата прикрепленного населения города и жителей «Восточной зоны» округа, из онкологического диспансера в поликлинику передан химический анализато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285840" y="1000080"/>
            <a:ext cx="35719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Arial"/>
                <a:ea typeface="Times New Roman"/>
              </a:rPr>
              <a:t>1 этап </a:t>
            </a:r>
            <a:r>
              <a:rPr b="1" lang="ru-RU" sz="1700" spc="-1" strike="noStrike">
                <a:solidFill>
                  <a:srgbClr val="191966"/>
                </a:solidFill>
                <a:latin typeface="Arial"/>
                <a:ea typeface="Times New Roman"/>
              </a:rPr>
              <a:t>- обследовано </a:t>
            </a:r>
            <a:r>
              <a:rPr b="1" lang="ru-RU" sz="1700" spc="-1" strike="noStrike">
                <a:solidFill>
                  <a:srgbClr val="c00000"/>
                </a:solidFill>
                <a:latin typeface="Arial"/>
                <a:ea typeface="Times New Roman"/>
              </a:rPr>
              <a:t>5 837 </a:t>
            </a:r>
            <a:r>
              <a:rPr b="1" lang="ru-RU" sz="1700" spc="-1" strike="noStrike">
                <a:solidFill>
                  <a:srgbClr val="191966"/>
                </a:solidFill>
                <a:latin typeface="Arial"/>
                <a:ea typeface="Times New Roman"/>
              </a:rPr>
              <a:t>человек, выявлено 924 положительных результата - 15,8 % от общего количества обследованных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кругленный прямоугольник 6"/>
          <p:cNvSpPr/>
          <p:nvPr/>
        </p:nvSpPr>
        <p:spPr>
          <a:xfrm>
            <a:off x="142920" y="1000080"/>
            <a:ext cx="4071960" cy="14288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4929120" y="1571760"/>
            <a:ext cx="400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Arial"/>
                <a:ea typeface="Times New Roman"/>
              </a:rPr>
              <a:t>2 этап – </a:t>
            </a:r>
            <a:r>
              <a:rPr b="1" lang="ru-RU" sz="1700" spc="-1" strike="noStrike">
                <a:solidFill>
                  <a:srgbClr val="191966"/>
                </a:solidFill>
                <a:latin typeface="Arial"/>
                <a:ea typeface="Times New Roman"/>
              </a:rPr>
              <a:t>фиброколоноскопия,  проведено </a:t>
            </a:r>
            <a:r>
              <a:rPr b="1" lang="ru-RU" sz="1700" spc="-1" strike="noStrike">
                <a:solidFill>
                  <a:srgbClr val="c00000"/>
                </a:solidFill>
                <a:latin typeface="Arial"/>
                <a:ea typeface="Times New Roman"/>
              </a:rPr>
              <a:t>602</a:t>
            </a:r>
            <a:r>
              <a:rPr b="1" lang="ru-RU" sz="1700" spc="-1" strike="noStrike">
                <a:solidFill>
                  <a:srgbClr val="191966"/>
                </a:solidFill>
                <a:latin typeface="Arial"/>
                <a:ea typeface="Times New Roman"/>
              </a:rPr>
              <a:t> ФКС исследования - </a:t>
            </a:r>
            <a:r>
              <a:rPr b="1" lang="ru-RU" sz="1700" spc="-1" strike="noStrike">
                <a:solidFill>
                  <a:srgbClr val="c00000"/>
                </a:solidFill>
                <a:latin typeface="Arial"/>
                <a:ea typeface="Times New Roman"/>
              </a:rPr>
              <a:t>65%</a:t>
            </a:r>
            <a:r>
              <a:rPr b="1" lang="ru-RU" sz="1700" spc="-1" strike="noStrike">
                <a:solidFill>
                  <a:srgbClr val="191966"/>
                </a:solidFill>
                <a:latin typeface="Arial"/>
                <a:ea typeface="Times New Roman"/>
              </a:rPr>
              <a:t> от количества подлежащи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8"/>
          <p:cNvSpPr/>
          <p:nvPr/>
        </p:nvSpPr>
        <p:spPr>
          <a:xfrm>
            <a:off x="4929120" y="1500120"/>
            <a:ext cx="4000680" cy="91440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Стрелка вправо 10"/>
          <p:cNvSpPr/>
          <p:nvPr/>
        </p:nvSpPr>
        <p:spPr>
          <a:xfrm>
            <a:off x="4286160" y="1500120"/>
            <a:ext cx="57168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11"/>
          <p:cNvSpPr/>
          <p:nvPr/>
        </p:nvSpPr>
        <p:spPr>
          <a:xfrm>
            <a:off x="428760" y="2786040"/>
            <a:ext cx="8072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191966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Учреждении за 2013 – 2014 годы выявлен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22 случая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колоректального ра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се пациенты с выявленной патологией направлены в онкологический диспансе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2"/>
          <p:cNvSpPr/>
          <p:nvPr/>
        </p:nvSpPr>
        <p:spPr>
          <a:xfrm>
            <a:off x="571680" y="2571840"/>
            <a:ext cx="8072280" cy="1643040"/>
          </a:xfrm>
          <a:prstGeom prst="ellipse">
            <a:avLst/>
          </a:pr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93240"/>
            <a:ext cx="9144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отребность населения города в высокотехнологичной медицинской помощи (ВМП) обеспечивается в учреждениях здравоохранения автономного округа и в федеральных центр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4200" y="1143000"/>
          <a:ext cx="8715600" cy="1096920"/>
        </p:xfrm>
        <a:graphic>
          <a:graphicData uri="http://schemas.openxmlformats.org/drawingml/2006/table">
            <a:tbl>
              <a:tblPr/>
              <a:tblGrid>
                <a:gridCol w="4500720"/>
                <a:gridCol w="2143080"/>
                <a:gridCol w="207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3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 мес. 2014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ВМП  в федеральных цент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ВМП в окружных цент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36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3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Прямоугольник 3"/>
          <p:cNvSpPr/>
          <p:nvPr/>
        </p:nvSpPr>
        <p:spPr>
          <a:xfrm>
            <a:off x="214200" y="228600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Наиболее востребованны у населения виды ВМП: сердечно-сосудистая хирургия, травматология и ортопедия, нейрохирургия, офтальмология, онколог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326952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Кадровый и технический потенциал Учреждения позволил создать и обеспечить функционирование с 14.01.2013 года межмуниципального консультативно-диагностического центра (МКДЦ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Согласована маршрутизация пациентов из муниципальных образований «Восточной зоны округа»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За 9 месяцев 2014г принято –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2088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челове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В 2013г принято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2407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пациентов из других 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Наиболее востребованными специалистами МКДЦ являются: травматологи-ортопеды, офтальмологи, сурдологи-оториноларингологи, кардиологи и другие специалисты, а также врачи-терапевты участковые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42920" y="106920"/>
            <a:ext cx="8786880" cy="35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Создана база для организации новых видов медицинской помощи с целью повышения доступности медицинской помощи взрослому населению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III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 квартале 2014 года организован кабинет неотложной помощи, который оснащен в соответствии с табелем базового оснащ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медицинским оборудованием и лекарственными препаратам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средствами связи и санитарным автотранспорт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http://pics.livejournal.com/airslon/pic/0015xd3k"/>
          <p:cNvPicPr/>
          <p:nvPr/>
        </p:nvPicPr>
        <p:blipFill>
          <a:blip r:embed="rId1"/>
          <a:stretch/>
        </p:blipFill>
        <p:spPr>
          <a:xfrm>
            <a:off x="5572080" y="4286160"/>
            <a:ext cx="3338640" cy="2343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920" y="4357800"/>
            <a:ext cx="5214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Выполнено выездов  бригадами неотложной  помощи –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431</a:t>
            </a: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из них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получены от служб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СМП –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407</a:t>
            </a: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 (94,4%) вызов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0" y="243720"/>
            <a:ext cx="9144000" cy="649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бъединение поликлиник позволило эффективно и без простоев использовать медицинское оборудование, полученное в рамках реализации программ «Модернизация здравоохранения ХМАО-Югры» и «Сотрудничество»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Рентгенодиагностический комплекс на 3 рабочих мест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(Германия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Цифровая ультразвуковая портативная система с цвет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доплером (Россия)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Стационарный цветной цифровой ультразвуковой сканер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(Китай) - 2 единиц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Томограф рентгеновский компьютерный 16-срезовый (Россия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- Томограф магнитно-резонансный (Коре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Маммограф рентгеновский (СШ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За 9 месяцев 2014 года приобретено 34 единицы медицинского оборудования, 6 укладок для бригад неотложной помощи, 6 реанимационных набо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существляется ежемесячный мониторинг эффективности использования медицинского оборудования. Случаи простоя или неэффективного использования не допускаю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111960"/>
            <a:ext cx="914400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труктура Учреждения позволяет массово, с использованием всего имеющегося потенциала, проводить профилактическую работу с населением города, направленную на формирование здорового образа жизни, включая сокращение потребления табака и алкоголя, максимально раннее выявление социально-значимых заболев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Работа проводится по нескольким направлениям,  одно из которых комплексное обследование   в  Центре здоровья, функционирующем в Учреждении в течение 5 ле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За время работы прошли обследование боле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35  тыс.  жителей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14200" y="3643200"/>
          <a:ext cx="8572680" cy="1011240"/>
        </p:xfrm>
        <a:graphic>
          <a:graphicData uri="http://schemas.openxmlformats.org/drawingml/2006/table">
            <a:tbl>
              <a:tblPr/>
              <a:tblGrid>
                <a:gridCol w="3500640"/>
                <a:gridCol w="1643040"/>
                <a:gridCol w="1714320"/>
                <a:gridCol w="17146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2013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9 мес. 2014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Динамика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Обследовано паци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54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08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</a:tr>
            </a:tbl>
          </a:graphicData>
        </a:graphic>
      </p:graphicFrame>
      <p:pic>
        <p:nvPicPr>
          <p:cNvPr id="119" name="Picture 8" descr="C:\Documents and Settings\Администратор\Рабочий стол\DCIM\100_PANA\P1000334.JPG"/>
          <p:cNvPicPr/>
          <p:nvPr/>
        </p:nvPicPr>
        <p:blipFill>
          <a:blip r:embed="rId1"/>
          <a:stretch/>
        </p:blipFill>
        <p:spPr>
          <a:xfrm>
            <a:off x="6427800" y="5072040"/>
            <a:ext cx="2097000" cy="157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Администратор\Рабочий стол\DCIM\100_PANA\P1000329.JPG"/>
          <p:cNvPicPr/>
          <p:nvPr/>
        </p:nvPicPr>
        <p:blipFill>
          <a:blip r:embed="rId2"/>
          <a:stretch/>
        </p:blipFill>
        <p:spPr>
          <a:xfrm>
            <a:off x="214200" y="5072040"/>
            <a:ext cx="2143080" cy="1490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Администратор\Рабочий стол\DCIM\100_PANA\P1000331.JPG"/>
          <p:cNvPicPr/>
          <p:nvPr/>
        </p:nvPicPr>
        <p:blipFill>
          <a:blip r:embed="rId3"/>
          <a:stretch/>
        </p:blipFill>
        <p:spPr>
          <a:xfrm>
            <a:off x="3214800" y="5072040"/>
            <a:ext cx="2095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835280" y="571680"/>
            <a:ext cx="676908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«Развитие здравоохранения Югры невозможно без эффективного функционирования амбулаторно-поликлинических учреждений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Н.Л. Западно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октябрь 2014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57120" y="3714840"/>
            <a:ext cx="6807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«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Профилактика, ранняя диагностика, эффективное лечение, медицинская и социальная реабилитация - 4 кита, на которых строится здравоохранение ХМАО-Югры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»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А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.В.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Ф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илимон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ноябрь 2014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786200" y="4287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14200" y="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ктуальность вопроса пре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мбулаторно-поликлинически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9120"/>
            <a:ext cx="657216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Мобильный Центр здоро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(функционирует с апреля 2013 год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За отчетный период в мобильном центре здоровья обследованы работники 18 промышленных предприятий, школ, детских сад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2920" y="2143080"/>
          <a:ext cx="8715240" cy="1646280"/>
        </p:xfrm>
        <a:graphic>
          <a:graphicData uri="http://schemas.openxmlformats.org/drawingml/2006/table">
            <a:tbl>
              <a:tblPr/>
              <a:tblGrid>
                <a:gridCol w="3786120"/>
                <a:gridCol w="1785960"/>
                <a:gridCol w="3143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9 мес.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Динамика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Принято паци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2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50% при сравнении с 2013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В том числе пациенты с факторами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5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</a:tbl>
          </a:graphicData>
        </a:graphic>
      </p:graphicFrame>
      <p:sp>
        <p:nvSpPr>
          <p:cNvPr id="124" name="Прямоугольник 5"/>
          <p:cNvSpPr/>
          <p:nvPr/>
        </p:nvSpPr>
        <p:spPr>
          <a:xfrm>
            <a:off x="214200" y="3811680"/>
            <a:ext cx="62150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66"/>
                </a:solidFill>
                <a:latin typeface="Arial"/>
                <a:ea typeface="Arial"/>
              </a:rPr>
              <a:t>В 2013 году в Учреждении открыт Кабинет медицинской помощи при отказе от курения, для консультирования и формирования мотивации по прекращению курен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66"/>
                </a:solidFill>
                <a:latin typeface="Arial"/>
                <a:ea typeface="Calibri"/>
              </a:rPr>
              <a:t>	</a:t>
            </a:r>
            <a:r>
              <a:rPr b="1" lang="ru-RU" sz="1600" spc="-1" strike="noStrike">
                <a:solidFill>
                  <a:srgbClr val="191966"/>
                </a:solidFill>
                <a:latin typeface="Arial"/>
                <a:ea typeface="Calibri"/>
              </a:rPr>
              <a:t>Участковой службой проводится информирование и активное направление курящих пациентов на консультац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66"/>
                </a:solidFill>
                <a:latin typeface="Arial"/>
                <a:ea typeface="Calibri"/>
              </a:rPr>
              <a:t>За 9 месяцев 2014 года в кабинет обратились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720 </a:t>
            </a:r>
            <a:r>
              <a:rPr b="1" lang="ru-RU" sz="1600" spc="-1" strike="noStrike">
                <a:solidFill>
                  <a:srgbClr val="191966"/>
                </a:solidFill>
                <a:latin typeface="Arial"/>
                <a:ea typeface="Calibri"/>
              </a:rPr>
              <a:t>человек, которым оказана консультативная и психологическая помощь, что высоко оценено населением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http://xn--80afcdd5bcf0ce.xn--p1ai/sites/default/files/dsc00503_2.jpg"/>
          <p:cNvPicPr/>
          <p:nvPr/>
        </p:nvPicPr>
        <p:blipFill>
          <a:blip r:embed="rId1"/>
          <a:stretch/>
        </p:blipFill>
        <p:spPr>
          <a:xfrm>
            <a:off x="6715080" y="285840"/>
            <a:ext cx="2094120" cy="139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Documents and Settings\Admin\Рабочий стол\12.04.09. Кардио\ФОТО К ЛЕКЦИИ\Легкие.jpg"/>
          <p:cNvPicPr/>
          <p:nvPr/>
        </p:nvPicPr>
        <p:blipFill>
          <a:blip r:embed="rId2"/>
          <a:stretch/>
        </p:blipFill>
        <p:spPr>
          <a:xfrm>
            <a:off x="6786720" y="414324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0" y="263880"/>
            <a:ext cx="9144000" cy="18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В Учреждении работают Школы здоровья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«Табококурение и употребление алкоголя, как факторы риска развит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неинфекционных заболеваний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«Здоровый сон-залог здоровья и долголетия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«Школа психологической разгрузки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«Здоровое питание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4200" y="2143080"/>
          <a:ext cx="8715600" cy="1006560"/>
        </p:xfrm>
        <a:graphic>
          <a:graphicData uri="http://schemas.openxmlformats.org/drawingml/2006/table">
            <a:tbl>
              <a:tblPr/>
              <a:tblGrid>
                <a:gridCol w="3786480"/>
                <a:gridCol w="1785600"/>
                <a:gridCol w="3143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9 мес.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Динамика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Количество пациентов, обученных в Школ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4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27% при сравнении с 2013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</a:tbl>
          </a:graphicData>
        </a:graphic>
      </p:graphicFrame>
      <p:sp>
        <p:nvSpPr>
          <p:cNvPr id="129" name="Прямоугольник 3"/>
          <p:cNvSpPr/>
          <p:nvPr/>
        </p:nvSpPr>
        <p:spPr>
          <a:xfrm>
            <a:off x="285840" y="3286080"/>
            <a:ext cx="8501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роме того, в поликлиниках продолжена работа Школ для пациентов с хроническими заболеваниям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артериальной гипертони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сахарным диабето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заболеваниями сустав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бронхиальной астм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школа глаукомного пациента и друг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Учреждение активно привлекает средства массовой информации для популяризации здорового образа жизни у взрослого населения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85840" y="142920"/>
            <a:ext cx="85010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С 2013 года в Учреждении исполняется план проведения 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«Д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ней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открытых дверей»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с участием врачей наиболее востребованных специальностей: офтальмологов, кардиологов, эндокринолог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ациенты имеют возможность  в течени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е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 одного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субботнего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дня пройти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консультации и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необходимый объем исследован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«Дни открытых дверей»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осстребованы взрослым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населени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ем гор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 2013 году с участием мобильного Центра здоровья проведено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9 акций, принято 2 653 человек,  выполнено исследований 115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 2014 году проведено 27 акций, принято 2 350 человек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ыполнено 1996 исследова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http://cmp39.ru/wp-content/uploads/2013/07/slav3.jpg"/>
          <p:cNvPicPr/>
          <p:nvPr/>
        </p:nvPicPr>
        <p:blipFill>
          <a:blip r:embed="rId1"/>
          <a:stretch/>
        </p:blipFill>
        <p:spPr>
          <a:xfrm>
            <a:off x="6786720" y="5143680"/>
            <a:ext cx="1857240" cy="139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www.kpcmp.ru/images/cms/data/risunok1.jpg"/>
          <p:cNvPicPr/>
          <p:nvPr/>
        </p:nvPicPr>
        <p:blipFill>
          <a:blip r:embed="rId2"/>
          <a:stretch/>
        </p:blipFill>
        <p:spPr>
          <a:xfrm>
            <a:off x="214200" y="5072040"/>
            <a:ext cx="2428920" cy="148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IMG_1570"/>
          <p:cNvPicPr/>
          <p:nvPr/>
        </p:nvPicPr>
        <p:blipFill>
          <a:blip r:embed="rId3"/>
          <a:stretch/>
        </p:blipFill>
        <p:spPr>
          <a:xfrm>
            <a:off x="3786120" y="5072040"/>
            <a:ext cx="17496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142920" y="20880"/>
            <a:ext cx="8858160" cy="680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Наличие специализированных диагностических отделений и клинико-диагностической лаборатории, оснащенной современным лабораторным  оборудованием,  обеспечивает возможность полноценного обследования на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Количество исследований в 2013 году возросл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ри сравнении с 2012 годом 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0,3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Calibri"/>
              </a:rPr>
              <a:t>Показатели по исследованиям молочной железы увеличились в 6 раз в связи с введением обязательного ультразвукового исследования молочных желез при проведении предварительных и периодических осмотров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течение 9 месяцев 2014 года выполнено исследова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рентгенодиагностических –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137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эндоскопических –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51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компьютерных томографических исследований –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17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 МРТ исследований –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7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функционально-диагностических исследований –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783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За 9 месяцев 2014 года выполне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 793 323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исследований в КД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(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8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больше при сравнении с 2012 годо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и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2,5%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ри сравнении с 2011 годо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0" y="-69120"/>
            <a:ext cx="914400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бъединение поликлиник позволяет эффективно исполнять программы льготного лекарственного обеспечения за счет средств федерального и окружного бюджетов: ОНЛС, РЛО, «7 Нозологий», «Орфанные заболевания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Участковой службой и врачами специалистами проводится учет потребности в лекарственных средствах для лиц льготной категор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91966"/>
                </a:solidFill>
                <a:uFillTx/>
                <a:latin typeface="Arial"/>
                <a:ea typeface="Calibri"/>
              </a:rPr>
              <a:t>На 01 ноября 2014 года на диспансерном учете в Учреждении состоят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Calibri"/>
              </a:rPr>
              <a:t>27 394 </a:t>
            </a:r>
            <a:r>
              <a:rPr b="1" lang="ru-RU" sz="2000" spc="-1" strike="noStrike" u="sng">
                <a:solidFill>
                  <a:srgbClr val="191966"/>
                </a:solidFill>
                <a:uFillTx/>
                <a:latin typeface="Arial"/>
                <a:ea typeface="Calibri"/>
              </a:rPr>
              <a:t>пациента льготной категори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57120" y="2857680"/>
          <a:ext cx="8501040" cy="219996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личество паци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намика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ОНЛ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66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↑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Р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20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↑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7 Нозолог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↑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Орфанные заболе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Прямоугольник 3"/>
          <p:cNvSpPr/>
          <p:nvPr/>
        </p:nvSpPr>
        <p:spPr>
          <a:xfrm>
            <a:off x="214200" y="51037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Ежегодно составляются и осваиваются заявки на льготные лекарственные препара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по программе ОНЛС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на сумму боле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28 млн. руб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по программе РЛО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-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110 млн. руб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Осуществляется единый контроль исполнения данных програм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https://encrypted-tbn3.gstatic.com/images?q=tbn:ANd9GcTCVd9yayfpkE76LuLFsexliFmDRZCNxwEwlUD2aEr9LzranqcM"/>
          <p:cNvPicPr/>
          <p:nvPr/>
        </p:nvPicPr>
        <p:blipFill>
          <a:blip r:embed="rId1"/>
          <a:stretch/>
        </p:blipFill>
        <p:spPr>
          <a:xfrm>
            <a:off x="7000920" y="5429160"/>
            <a:ext cx="194796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0" y="393120"/>
            <a:ext cx="9144000" cy="55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Преобразование Учреждения позволило перейти на преимущественно одноканальное финансирование через систему обязательного медицинского страх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Calibri"/>
              </a:rPr>
              <a:t>В целях сохранения установленных ранее денежных выплат отдельным категориям медицинских работников, в систему оплаты труда включены ежемесячные выплаты врачам-терапевтам участковым, врачам общей практики в размере 10000 руб., медицинским сестрам участковым и медицинским сестрам общей практики в размере 5000 руб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Calibri"/>
              </a:rPr>
              <a:t>Источником осуществления данных выплат являются средства обязательного медицинского страх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91966"/>
                </a:solidFill>
                <a:uFillTx/>
                <a:latin typeface="Arial"/>
                <a:ea typeface="Calibri"/>
              </a:rPr>
              <a:t>В соответствии с Программой государственных гарантий, плановый объем финансирования в 2013 год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91966"/>
                </a:solidFill>
                <a:uFillTx/>
                <a:latin typeface="Arial"/>
                <a:ea typeface="Calibri"/>
              </a:rPr>
              <a:t>составил - 804 784,6 тыс. рубл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Calibri"/>
              </a:rPr>
              <a:t>Исполнение Программы государственных гарантий - 98,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357120" y="241920"/>
            <a:ext cx="8572680" cy="576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ВЫВОД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Совершенствование первичной, специализированной медико-санитарной помощи, развитие профилактического направления, исполнение государственных программ, позволяет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повысить  доступность и качество медицинской помощ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снизить распространенность факторов риск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создать мотивацию у населения для ведения здорового образа жизн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увеличить показатель ожидаемой продолжительности жизн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- стабилизировать демографическую ситуацию за счет снижения смертности жителей города от управляемых причи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1000080" y="12142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0" descr="IMG_2545"/>
          <p:cNvPicPr/>
          <p:nvPr/>
        </p:nvPicPr>
        <p:blipFill>
          <a:blip r:embed="rId1"/>
          <a:stretch/>
        </p:blipFill>
        <p:spPr>
          <a:xfrm>
            <a:off x="571680" y="2571840"/>
            <a:ext cx="2408040" cy="185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IMG_1570"/>
          <p:cNvPicPr/>
          <p:nvPr/>
        </p:nvPicPr>
        <p:blipFill>
          <a:blip r:embed="rId2"/>
          <a:stretch/>
        </p:blipFill>
        <p:spPr>
          <a:xfrm>
            <a:off x="3429000" y="2571840"/>
            <a:ext cx="2071800" cy="1879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IMG_0388"/>
          <p:cNvPicPr/>
          <p:nvPr/>
        </p:nvPicPr>
        <p:blipFill>
          <a:blip r:embed="rId3"/>
          <a:stretch/>
        </p:blipFill>
        <p:spPr>
          <a:xfrm>
            <a:off x="6049800" y="2571840"/>
            <a:ext cx="2665440" cy="1857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IMG_2641"/>
          <p:cNvPicPr/>
          <p:nvPr/>
        </p:nvPicPr>
        <p:blipFill>
          <a:blip r:embed="rId4"/>
          <a:stretch/>
        </p:blipFill>
        <p:spPr>
          <a:xfrm>
            <a:off x="3429000" y="4714920"/>
            <a:ext cx="2092320" cy="1866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IMG_2622"/>
          <p:cNvPicPr/>
          <p:nvPr/>
        </p:nvPicPr>
        <p:blipFill>
          <a:blip r:embed="rId5"/>
          <a:stretch/>
        </p:blipFill>
        <p:spPr>
          <a:xfrm>
            <a:off x="6357960" y="4714920"/>
            <a:ext cx="2125800" cy="162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IMG_2630"/>
          <p:cNvPicPr/>
          <p:nvPr/>
        </p:nvPicPr>
        <p:blipFill>
          <a:blip r:embed="rId6"/>
          <a:stretch/>
        </p:blipFill>
        <p:spPr>
          <a:xfrm>
            <a:off x="785880" y="4714920"/>
            <a:ext cx="19288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57120" y="257400"/>
            <a:ext cx="8286840" cy="61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Преобразование Нижневартовской городской поликлиники в самостоятельное учреждение осуществлено путем выделения из состава стационаров города поликлиник, и объединения их в единое учреждение, на основании Распоряжения Главы города Нижневартовска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от 24.01.2006 № 43-р.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Arial"/>
                <a:ea typeface="Arial"/>
              </a:rPr>
              <a:t>Данное структурное преобразование позволило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Эффективно и рационально использовать имеющиеся в поликлиниках кадровые и технические ресурсы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Оптимизировать структуру административно-управленческого персонал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Повысить оплату труда работников за счет интенсификации труд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Развивать инновационные малозатратные стационарзамещающие технолог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Соблюдать единые требования к качеству и доступности оказываемой медицинской помощ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14200" y="142920"/>
            <a:ext cx="8786880" cy="65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задачи Учре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(в том числе исполнение отдельных поручений Президента РФ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91966"/>
                </a:solidFill>
                <a:latin typeface="Arial"/>
                <a:ea typeface="Arial"/>
              </a:rPr>
              <a:t>1. Совершенствовать первичную и специализированную медико-санитарную помощь в целях обеспечения населения социально гарантированным объемом медицинской помощи, согласно Территориальной программе государственных гарантий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91966"/>
                </a:solidFill>
                <a:latin typeface="Arial"/>
                <a:ea typeface="Arial"/>
              </a:rPr>
              <a:t>2. Активно участвовать в реализации государственной программы автономного округа «Развитие здравоохранения на 2014–2020 годы»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91966"/>
                </a:solidFill>
                <a:latin typeface="Arial"/>
                <a:ea typeface="Arial"/>
              </a:rPr>
              <a:t>3. Повышать качество и доступность первичной и специализированной медико-санитарной помощи населению на основе применения современных технологий, в соответствии с порядками и стандартами оказания медицинской помощи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91966"/>
                </a:solidFill>
                <a:latin typeface="Arial"/>
                <a:ea typeface="Arial"/>
              </a:rPr>
              <a:t>4. Развивать профилактическое направление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91966"/>
                </a:solidFill>
                <a:latin typeface="Arial"/>
                <a:ea typeface="Arial"/>
              </a:rPr>
              <a:t>5. Внедрять медицинские автоматизированные информационные системы, включая запись на прием к врачу через Интернет, телемедицинские технологии, систему дистанционного обучения врачей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217800"/>
            <a:ext cx="9144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Одной из особенностей работы Учреждения является большая численность прикрепленного взрослого населения город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2920" y="1143000"/>
          <a:ext cx="8786880" cy="2193840"/>
        </p:xfrm>
        <a:graphic>
          <a:graphicData uri="http://schemas.openxmlformats.org/drawingml/2006/table">
            <a:tbl>
              <a:tblPr/>
              <a:tblGrid>
                <a:gridCol w="6072120"/>
                <a:gridCol w="27147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енность взрослого насел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Нижневартов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 934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- трудоспособного возрас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67195 (80,8%) ч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Прирост численности населения  (в 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Увеличение численности лиц старше трудоспособного возраста (в 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5-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9fc"/>
                    </a:solidFill>
                  </a:tcPr>
                </a:tc>
              </a:tr>
            </a:tbl>
          </a:graphicData>
        </a:graphic>
      </p:graphicFrame>
      <p:sp>
        <p:nvSpPr>
          <p:cNvPr id="52" name="Прямоугольник 4"/>
          <p:cNvSpPr/>
          <p:nvPr/>
        </p:nvSpPr>
        <p:spPr>
          <a:xfrm>
            <a:off x="142920" y="3786120"/>
            <a:ext cx="878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недрение единого подхода в оказании диагностических, лечебных, реабилитационных и профилактических услуг позволило в 2013 году снизит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смертность взрослого населения от всех причин 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3,3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том числе снизить 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3,8%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показатель смертности о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болезней системы кровообра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Овал 6"/>
          <p:cNvSpPr/>
          <p:nvPr/>
        </p:nvSpPr>
        <p:spPr>
          <a:xfrm>
            <a:off x="357120" y="5143680"/>
            <a:ext cx="8429760" cy="1571400"/>
          </a:xfrm>
          <a:prstGeom prst="ellipse">
            <a:avLst/>
          </a:prstGeom>
          <a:noFill/>
          <a:ln w="4428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4357800" y="5286240"/>
          <a:ext cx="57132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>
                    <a:alphaModFix amt="38000"/>
                  </a:blip>
                  <a:stretch/>
                </p:blipFill>
                <p:spPr>
                  <a:xfrm>
                    <a:off x="4357800" y="5286240"/>
                    <a:ext cx="5713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14200" y="142920"/>
            <a:ext cx="871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Наличие квалифицированного медицинского персонала – фактор определяющий качество оказания медицинской помо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14200" y="1355400"/>
            <a:ext cx="8786880" cy="55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Основа кадровой политики – планирование кадровых ресурсов с учетом потребности города, их эффективное и рациональное использо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течение 5 лет принят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188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специалистов с высшим медицинским образованием, в том числе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88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рачей «узких» специальн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2013 году Учреждением введено дополнитель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47,0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штатных единиц, что позволило решить часть кадровых вопросов, из них врачебного персонала 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15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шт.е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2014 году введено дополнитель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6,0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штатных единиц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связи с интенсивным жилищным строительством, на базе поликлиники № 2 дополнительно открыто терапевтическое отделение для оказания медицинской помощи жителям новых микрорайонов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428760" y="1428840"/>
            <a:ext cx="8429400" cy="1285920"/>
          </a:xfrm>
          <a:prstGeom prst="ellipse">
            <a:avLst/>
          </a:prstGeom>
          <a:noFill/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57120" y="2332080"/>
          <a:ext cx="8358120" cy="1711440"/>
        </p:xfrm>
        <a:graphic>
          <a:graphicData uri="http://schemas.openxmlformats.org/drawingml/2006/table">
            <a:tbl>
              <a:tblPr/>
              <a:tblGrid>
                <a:gridCol w="6137280"/>
                <a:gridCol w="222084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чебны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  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лжност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терапевтические участки и участки обще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средний медицинс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c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cfd"/>
                    </a:solidFill>
                  </a:tcPr>
                </a:tc>
              </a:tr>
            </a:tbl>
          </a:graphicData>
        </a:graphic>
      </p:graphicFrame>
      <p:sp>
        <p:nvSpPr>
          <p:cNvPr id="60" name="TextBox 3"/>
          <p:cNvSpPr/>
          <p:nvPr/>
        </p:nvSpPr>
        <p:spPr>
          <a:xfrm>
            <a:off x="214200" y="142920"/>
            <a:ext cx="8715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Кадровый состав Учреждения – 1191 сотрудник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– 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рачи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303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(25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 %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), что на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↑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3,6% (при сравнении 2013 г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средний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 и младший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медицинский персонал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722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(61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%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),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↑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0,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не медицинский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персонал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166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(14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 %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),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↑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17,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Укомплектованнос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214200" y="4143240"/>
            <a:ext cx="8715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 настоящее время в отпуске по уходу за ребенком находится 109 врачей Средний возраст врачебного состава - 35 ле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 Учреждении трудятся работники, имеющие ученую степень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 кандидатов медицинских наук –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7,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имеющи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е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 почетные звания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– 15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91966"/>
                </a:solidFill>
                <a:uFillTx/>
                <a:latin typeface="Arial"/>
                <a:ea typeface="Arial"/>
              </a:rPr>
              <a:t>Данный кадровый потенциал позволяет развивать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Наставниче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Для повышения престижа профессии во всех подразделениях Учреждения созданы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Доски почета»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14200" y="68400"/>
            <a:ext cx="8929800" cy="180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Амбулаторно-поликлиническая помощь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взрослому населе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города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оказываетс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3-х структурных подразделениях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поликлиник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а №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поликлиника №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поликлиника №3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57120" y="5411880"/>
            <a:ext cx="1928880" cy="1446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3571920" y="5464080"/>
            <a:ext cx="1857240" cy="139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6572160" y="5413320"/>
            <a:ext cx="192888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142920" y="1714680"/>
          <a:ext cx="8858160" cy="1006200"/>
        </p:xfrm>
        <a:graphic>
          <a:graphicData uri="http://schemas.openxmlformats.org/drawingml/2006/table">
            <a:tbl>
              <a:tblPr/>
              <a:tblGrid>
                <a:gridCol w="3071880"/>
                <a:gridCol w="57862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лановая мо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55 посещ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Фактическая мо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(что превышает расчетный показатель на 2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71680" y="3929040"/>
          <a:ext cx="8072280" cy="1381320"/>
        </p:xfrm>
        <a:graphic>
          <a:graphicData uri="http://schemas.openxmlformats.org/drawingml/2006/table">
            <a:tbl>
              <a:tblPr/>
              <a:tblGrid>
                <a:gridCol w="600048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о врачебных посещений  в 2013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6 8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Число врачебных посещений за 9 мес. 2014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642 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Среднее количество посещений на 1 жит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Прямоугольник 8"/>
          <p:cNvSpPr/>
          <p:nvPr/>
        </p:nvSpPr>
        <p:spPr>
          <a:xfrm>
            <a:off x="214200" y="285768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ервичная и специализированная врачебная медико-санитарная помощь оказывается п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9 специальностям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, в т.ч. п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6 специальностям   ведется амбулаторный прием паци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286000" y="3263760"/>
            <a:ext cx="4929120" cy="3492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0" y="120240"/>
            <a:ext cx="9144000" cy="31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поликлинике создана база для оказания первичной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медико-санитарной помощи взрослому населению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09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рачебных участков, в том числ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02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терапевтических участ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7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участков - общей врачебной прак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 отдаленных районах города организова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отделения ВОП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 связи с активной застройкой новых микрорайонов города, планируется дополнительное открытие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3-х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отделений ВО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http://www.nv-varta.ru/magazine_images/gswfgas4-1.jpg"/>
          <p:cNvPicPr/>
          <p:nvPr/>
        </p:nvPicPr>
        <p:blipFill>
          <a:blip r:embed="rId2"/>
          <a:stretch/>
        </p:blipFill>
        <p:spPr>
          <a:xfrm>
            <a:off x="6572160" y="3286080"/>
            <a:ext cx="2381400" cy="134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14200" y="3286080"/>
            <a:ext cx="2711520" cy="135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6786720" y="5286240"/>
            <a:ext cx="2070000" cy="138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74" name="Picture 9" descr=""/>
          <p:cNvPicPr/>
          <p:nvPr/>
        </p:nvPicPr>
        <p:blipFill>
          <a:blip r:embed="rId5"/>
          <a:stretch/>
        </p:blipFill>
        <p:spPr>
          <a:xfrm>
            <a:off x="285840" y="5286240"/>
            <a:ext cx="2539800" cy="142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lyarovaMS</cp:lastModifiedBy>
  <dcterms:modified xsi:type="dcterms:W3CDTF">2014-11-17T12:15:43Z</dcterms:modified>
  <cp:revision>389</cp:revision>
  <dc:subject/>
  <dc:title>PowerPoint Presentation</dc:title>
</cp:coreProperties>
</file>